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DAD-5A22-4C35-AFE8-25DA1C17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48CA-E35D-4EE0-B3EE-E747C3B1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45E-B17F-4ED5-925B-DE8D116A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9B4F-1558-4F4D-B480-6E0ED8A2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0DF6-FA63-4C7F-B63A-2F7EFFA6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78D-E134-47C6-8C30-9BAEEE0F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78D2-620D-40EA-BD31-6AC56516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700-45AD-4446-AA77-F02D2FD0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276-7529-4713-A3B6-2065683F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09D-8FA1-47F3-811D-B88CFC41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01C3-257A-4E8B-A560-5A6D5EAD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D4C-4E55-41E8-8927-E1CFE45D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814E-9220-4D7C-94FE-A0C83E3CB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s and 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Francisco Viramo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with per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 have a lot of different col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 have different sha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 have different sizes; some are big, some are li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gate%2002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in volcan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in 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under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under the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la-ecuador-volcano01"/>
          <p:cNvPicPr/>
          <p:nvPr/>
        </p:nvPicPr>
        <p:blipFill>
          <a:blip r:embed="rId1"/>
          <a:stretch/>
        </p:blipFill>
        <p:spPr>
          <a:xfrm>
            <a:off x="5029200" y="1600200"/>
            <a:ext cx="3276720" cy="218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flathead-river-rocks-denise--hoff"/>
          <p:cNvPicPr/>
          <p:nvPr/>
        </p:nvPicPr>
        <p:blipFill>
          <a:blip r:embed="rId2"/>
          <a:stretch/>
        </p:blipFill>
        <p:spPr>
          <a:xfrm>
            <a:off x="5214960" y="3938760"/>
            <a:ext cx="29034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 are made of miner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from one mi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of two or more miner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BlackGalaxy"/>
          <p:cNvPicPr/>
          <p:nvPr/>
        </p:nvPicPr>
        <p:blipFill>
          <a:blip r:embed="rId1"/>
          <a:stretch/>
        </p:blipFill>
        <p:spPr>
          <a:xfrm>
            <a:off x="5562720" y="4038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tock-photo-semi-precious-gemstones-blue-lace-agate-aquamarine-apatite-fushite-beryl-amazonite-angelite-4046458"/>
          <p:cNvPicPr/>
          <p:nvPr/>
        </p:nvPicPr>
        <p:blipFill>
          <a:blip r:embed="rId2"/>
          <a:stretch/>
        </p:blipFill>
        <p:spPr>
          <a:xfrm>
            <a:off x="5486400" y="1371600"/>
            <a:ext cx="243828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animals-and-plants31701s"/>
          <p:cNvPicPr/>
          <p:nvPr/>
        </p:nvPicPr>
        <p:blipFill>
          <a:blip r:embed="rId1"/>
          <a:stretch/>
        </p:blipFill>
        <p:spPr>
          <a:xfrm>
            <a:off x="1828800" y="304920"/>
            <a:ext cx="5524560" cy="3809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3290040" y="4648320"/>
            <a:ext cx="27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y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take energy from the sun and s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ake their own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ANd9GcS7FOyzw-HP0CPeMgSsfKG9oUR0BlQuhRI_W9FRHO0zEHdHQMQvPQ"/>
          <p:cNvPicPr/>
          <p:nvPr/>
        </p:nvPicPr>
        <p:blipFill>
          <a:blip r:embed="rId1"/>
          <a:stretch/>
        </p:blipFill>
        <p:spPr>
          <a:xfrm>
            <a:off x="5153040" y="1935000"/>
            <a:ext cx="3029040" cy="1514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grass"/>
          <p:cNvPicPr/>
          <p:nvPr/>
        </p:nvPicPr>
        <p:blipFill>
          <a:blip r:embed="rId2"/>
          <a:stretch/>
        </p:blipFill>
        <p:spPr>
          <a:xfrm>
            <a:off x="4889520" y="3938760"/>
            <a:ext cx="35542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nimals eat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r, horses, turtles, and birds eat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horse_578_600x450"/>
          <p:cNvPicPr/>
          <p:nvPr/>
        </p:nvPicPr>
        <p:blipFill>
          <a:blip r:embed="rId1"/>
          <a:stretch/>
        </p:blipFill>
        <p:spPr>
          <a:xfrm>
            <a:off x="4724280" y="15238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niv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t eaters are carniv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ns, T-Rex, cats, and dogs are carniv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Lion-Wallpapers-For-Desktop-3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mpo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mposers eat dead plants and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ms are decompo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250px-Regenwurm1"/>
          <p:cNvPicPr/>
          <p:nvPr/>
        </p:nvPicPr>
        <p:blipFill>
          <a:blip r:embed="rId1"/>
          <a:stretch/>
        </p:blipFill>
        <p:spPr>
          <a:xfrm>
            <a:off x="5105520" y="1676520"/>
            <a:ext cx="317484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4:55:29Z</dcterms:created>
  <dc:creator>aedwards</dc:creator>
  <dc:description/>
  <dc:language>en-US</dc:language>
  <cp:lastModifiedBy>Jeanette</cp:lastModifiedBy>
  <dcterms:modified xsi:type="dcterms:W3CDTF">2012-12-13T22:38:30Z</dcterms:modified>
  <cp:revision>2</cp:revision>
  <dc:subject/>
  <dc:title>Rocks and Minerals</dc:title>
</cp:coreProperties>
</file>